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%D8%A7%D8%B1%D8%AA%D9%81%D8%A7%D8%B92.wav" ContentType="audio/x-wav"/>
  <Override PartName="/ppt/media/image4.wmf" ContentType="image/x-wmf"/>
  <Override PartName="/ppt/media/%D8%B3%D8%AD%D9%91%D8%A7%D8%A82.wav" ContentType="audio/x-wav"/>
  <Override PartName="/ppt/media/PROJCTOR.WAV" ContentType="audio/x-wav"/>
  <Override PartName="/ppt/media/GLASS.WAV" ContentType="audio/x-wav"/>
  <Override PartName="/ppt/media/GU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D0B-CEA5-478B-9121-679D49A8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2B0-99E1-498F-810C-A86512B8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E94-B279-4A49-B8D9-DC0221BD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B59-428A-4456-9883-F1E65E61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B8B-CD21-4902-A31E-A3F5850E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AC6-4475-4E4F-B352-A7F78C7C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7D8-E65A-4E1F-AFDF-311C6776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7AA-432B-44DC-A63D-C515E1FD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E19-BA4D-42B9-9F55-ED877D3D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2A7-A149-49D2-A1FA-6BD30F3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5F1-C89E-4732-AF77-CDAEBD9E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02E-6076-4F32-AB99-B07219F2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4D48BB-CDDD-410A-B82A-77199715C2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PROJCTOR.WAV"/><Relationship Id="rId7" Type="http://schemas.openxmlformats.org/officeDocument/2006/relationships/audio" Target="../media/GLASS.WAV"/><Relationship Id="rId8" Type="http://schemas.openxmlformats.org/officeDocument/2006/relationships/audio" Target="../media/&#1575;&#1585;&#1578;&#1601;&#1575;&#1593;2.wav"/><Relationship Id="rId9" Type="http://schemas.openxmlformats.org/officeDocument/2006/relationships/audio" Target="../media/GUN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267080" cy="2197080"/>
            <a:chOff x="0" y="0"/>
            <a:chExt cx="4267080" cy="21970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133720" y="0"/>
              <a:ext cx="2133360" cy="21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3720" cy="21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914400" y="228600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46000" y="3352680"/>
            <a:ext cx="1987560" cy="350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91120" y="35812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8%A7%D8%B1%D8%AA%D9%81%D8%A7%D8%B9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48:12Z</dcterms:modified>
  <cp:revision>26</cp:revision>
  <dc:subject/>
  <dc:title>No Slide Title</dc:title>
</cp:coreProperties>
</file>